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F30C-A5B6-4D2D-AE3B-7B6E9B888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2CA7-4E8A-41C5-91FF-4CE99EA57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7B62-1688-455E-B8BE-32E0712A9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0838-B15C-43AD-A698-831588CE7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D74F4-1C77-4A64-ABE6-FCFB7532A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7FA47-DF33-47CF-A55B-A18214954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EDF76-1ED6-4562-8CD8-B6B879BDC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D942F-525A-4F71-AAFE-4C2976260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90112-001E-4C0B-9796-95D52D0F1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90383-6D4E-49E6-88C9-034D3CAF2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0C930-7648-4DC1-980D-400FFDBF5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322C-1B9A-4240-985D-38CA2FC40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8A653-C3FD-4F3D-A52A-850E3DB1D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5FE3D-5FF8-447A-B5D8-EE55EC3AC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93E86-EED3-448E-B18C-646CB9DE2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816C3-34EE-445A-AF90-A4FB8FA30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34069-DEF0-4281-9EB8-B7AE7932B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391D-6D09-4FE0-8731-18BA575E7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0075-C815-44D4-B3F2-71AEDA1F2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B200-CD74-49A5-9FBC-FC4725EDD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7229-6935-45C4-ADE0-3948FF604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C1B8-E7E4-4F12-908A-6F8734009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50C6-AB84-492A-B975-5942A5BAF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BDAF-544E-4652-A646-8B8866DCD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B3E4A-A2BE-4A0A-A877-BF63E8FA366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86492-1BA8-4D01-B41F-3B3C525E641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4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Cerrar el trato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685440" y="3765240"/>
            <a:ext cx="800100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so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ácile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ordar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l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ment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4 pasos para cerrar el trato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ntoni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di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HP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ponga el tra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je de ven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ierre el trato con confian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1.  “Sintonice la radio en QHPM”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HPM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–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é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y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a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?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 la emisora favorita, y la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únic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, que su cliente escuch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pa por qué están compran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uérdeles por qué están compran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ábleles sólo acerca de cómo les va a ayudar este tra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2.  Exponga el trato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dentificad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cesidade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a ha presentado una posible solución a sus neces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a se ha ganado el derecho a pedirles que compren la solución recomendada... ¡Pues pídaselo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3.  Deje de vender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07732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e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aben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ier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 han pedido que se lo facilite, ¡y ya lo ha hecho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uanto más hable, más pensarán que no está satisfecho con la solución ofreci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je de hablar y permítales que decid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4.  Cierre el trato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	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errar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rat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em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fian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 los clientes creen que usted tiene confianza en su solución, ellos también la tendrá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confianza es producto de la prepa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pare la presentación final y prepare respuestas para posibles objecion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7T03:11:24Z</dcterms:created>
  <dc:creator/>
  <dc:description/>
  <dc:language>en-US</dc:language>
  <cp:lastModifiedBy>Jennifer Tornay</cp:lastModifiedBy>
  <dcterms:modified xsi:type="dcterms:W3CDTF">2004-06-22T13:25:45Z</dcterms:modified>
  <cp:revision>24</cp:revision>
  <dc:subject/>
  <dc:title>Closing The Dea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858052149</vt:r8>
  </property>
  <property fmtid="{D5CDD505-2E9C-101B-9397-08002B2CF9AE}" pid="3" name="_AuthorEmailDisplayName">
    <vt:lpwstr>Kathleen McAneany</vt:lpwstr>
  </property>
  <property fmtid="{D5CDD505-2E9C-101B-9397-08002B2CF9AE}" pid="4" name="_EmailSubject">
    <vt:lpwstr>Files</vt:lpwstr>
  </property>
  <property fmtid="{D5CDD505-2E9C-101B-9397-08002B2CF9AE}" pid="5" name="_ReviewingToolsShownOnce">
    <vt:lpwstr/>
  </property>
</Properties>
</file>